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4B5-16F7-419D-8853-15D5A0E2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D03-61CC-487F-884E-B60AF5FC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9975-D862-45B8-8018-3922D744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E9A-5F78-43D0-80DA-C3B6A99E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4D5-25BE-4896-A6E2-D83168BD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58E-CAE7-42A8-A716-395B172B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5FE-02DE-4F2F-A4FA-0C4203F0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756-3072-45AB-BA73-FF36113D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73F-1BD1-4C9A-861B-6758E65A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DC8-04AD-413F-8A80-71CDA3C8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2EF2-4BCC-4075-86C7-FA78A479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D11-D587-4F53-87BC-1FC965E3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0DD0-90BA-460B-AE84-582B2E75A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rect  Admits Parked at Own 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- Patien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e.g. from Other Ward/IC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vious Location =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wn ER (direc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_Admit_Inpatient =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Other site/unit/ward last sent fr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vious Service =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Service of sending site otherwise unkn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pt DtTm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Visit Admit DtTm (?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Non-In-Patien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e.g. from Other ER / ambulatory Clinic / PCH /Home 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vious Location =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wn ER (park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_Admit_Inpatient =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N/A not applic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vious Service =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Service of sending site, otherwise unkn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cept DtTm =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Visit Admit DtTm (?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 In-Patients Direct Ad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admit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kn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prior location of the patient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unknow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en-US" sz="3200" spc="-1" strike="noStrike">
                <a:solidFill>
                  <a:srgbClr val="4bacc6"/>
                </a:solidFill>
                <a:latin typeface="Calibri"/>
              </a:rPr>
              <a:t>(Can this be made known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Enter in  Tmp project ‘Accept_Loc_Park’ where the decision to admit wa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interfacility transfers, these patients are reported to be coming from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ther site’s lo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e.g. STB_ER) vi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‘Own ER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-Patients Direct Ad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admit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kn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prior inpatient location of the patient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know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interfacility transfers, these patients are reported to be coming from the ‘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_admit_Inpatient Institu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  via ‘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wn 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8T19:08:24Z</dcterms:created>
  <dc:creator>Julie Mojica</dc:creator>
  <dc:description/>
  <dc:language>en-US</dc:language>
  <cp:lastModifiedBy>Julie Mojica</cp:lastModifiedBy>
  <dcterms:modified xsi:type="dcterms:W3CDTF">2017-12-07T19:45:28Z</dcterms:modified>
  <cp:revision>23</cp:revision>
  <dc:subject/>
  <dc:title>PowerPoint Presentation</dc:title>
</cp:coreProperties>
</file>